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8.png" ContentType="image/png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3C5B-C5D5-42C0-A290-F050847CD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efs, Dolphins, and Ea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9941-2143-4999-91F7-274786FC70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E43-C698-4D53-877E-AB17A1D4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4BC-A8D2-4834-8D8E-AAD36FF2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364-C17E-48EE-AD3C-D471D695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4F6-D9FE-47E4-A34A-B50A9C80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793-BECD-4A42-B114-5577974B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20B-74D7-49D6-A688-1CC41B09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0A3-F5C2-4CB3-B604-700530F0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AF5-FF8A-41BF-BA7C-C8C12D1A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F3E-A2C7-4D75-A5CF-9759B3F8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BB0-596B-4EA1-87B1-AECE3FD9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C05-28A7-42A0-8055-1F7DC213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37E-BBA7-4C5C-9953-AA1F6178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E8C4-CBB2-43AC-9107-04D06BC42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harcourtschool.com/activity/acids/" TargetMode="External"/><Relationship Id="rId2" Type="http://schemas.openxmlformats.org/officeDocument/2006/relationships/hyperlink" Target="http://www.harcourtschool.com/activity/acids/" TargetMode="External"/><Relationship Id="rId3" Type="http://schemas.openxmlformats.org/officeDocument/2006/relationships/hyperlink" Target="http://www.harcourtschool.com/activity/acids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miamisci.org/ph/cabbagebig.gif&amp;imgrefurl=http://www.miamisci.org/ph/phcabbage.html&amp;h=143&amp;w=180&amp;prev=/images%3Fq%3Dred%2Bcabbage%26svnum%3D10%26hl%3Den%26lr%3D%26ie%3DUTF-8" TargetMode="External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miamisci.org/ph/cabbagebig.gif&amp;imgrefurl=http://www.miamisci.org/ph/phcabbage.html&amp;h=143&amp;w=180&amp;prev=/images%3Fq%3Dred%2Bcabbage%26svnum%3D10%26hl%3Den%26lr%3D%26ie%3DUTF-8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dn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2/24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92776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harcourtschool.com</a:t>
            </a:r>
            <a:r>
              <a:rPr b="0" lang="en-US" sz="35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activity/acids/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3520" y="1006560"/>
            <a:ext cx="807696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at is pH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1561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Use the pH scale to determine what substance is in each test tube during this computer simul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34290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ck practice measuring pH using a pH Scal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8749" t="28124" r="17970" b="20835"/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990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9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4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9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4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4419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8909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410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5867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338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 rot="18643800">
            <a:off x="3139920" y="2879640"/>
            <a:ext cx="517536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plete this table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15626" t="18753" r="15626" b="14584"/>
          <a:stretch/>
        </p:blipFill>
        <p:spPr>
          <a:xfrm>
            <a:off x="0" y="-7632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14168" t="15557" r="10833" b="21112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52280" y="152280"/>
            <a:ext cx="87631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abbage Patch Indicator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3595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3581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72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1533600"/>
            <a:ext cx="1600200" cy="48042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or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pH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your answer if it is off by more tha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877800">
            <a:off x="5486400" y="2534760"/>
            <a:ext cx="3124080" cy="3027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rongest base we tested during this lab activity was 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TPChart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illed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neg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172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248520" y="2057400"/>
            <a:ext cx="30477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Baking s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oothpa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Ant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Ch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Amm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ime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905120"/>
            <a:ext cx="36576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Distille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orn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Shamp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Dish so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133720"/>
            <a:ext cx="289584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Grapefruit 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Vitam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Vinegar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Aspi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Lemon 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S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Orange J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60" y="609840"/>
            <a:ext cx="9143640" cy="1428120"/>
            <a:chOff x="360" y="609840"/>
            <a:chExt cx="9143640" cy="1428120"/>
          </a:xfrm>
        </p:grpSpPr>
        <p:sp>
          <p:nvSpPr>
            <p:cNvPr id="178" name=""/>
            <p:cNvSpPr/>
            <p:nvPr/>
          </p:nvSpPr>
          <p:spPr>
            <a:xfrm rot="10800000">
              <a:off x="8371440" y="609840"/>
              <a:ext cx="643680" cy="141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0">
              <a:off x="7727760" y="609840"/>
              <a:ext cx="643680" cy="14194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0800000">
              <a:off x="7083720" y="609840"/>
              <a:ext cx="644040" cy="14194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0800000">
              <a:off x="6439680" y="609840"/>
              <a:ext cx="643680" cy="14194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0800000">
              <a:off x="5796000" y="609840"/>
              <a:ext cx="643680" cy="141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0800000">
              <a:off x="5151960" y="609840"/>
              <a:ext cx="644040" cy="141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0800000">
              <a:off x="4507920" y="609840"/>
              <a:ext cx="643680" cy="141948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3864240" y="609840"/>
              <a:ext cx="643680" cy="14194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800000">
              <a:off x="3220200" y="609840"/>
              <a:ext cx="644040" cy="141948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800000">
              <a:off x="2576160" y="609840"/>
              <a:ext cx="643680" cy="1419480"/>
            </a:xfrm>
            <a:prstGeom prst="rect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800000">
              <a:off x="1932480" y="609840"/>
              <a:ext cx="643680" cy="14194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0800000">
              <a:off x="1288080" y="609840"/>
              <a:ext cx="644040" cy="141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800000">
              <a:off x="644400" y="609840"/>
              <a:ext cx="643680" cy="141948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360" y="609840"/>
              <a:ext cx="643680" cy="14194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8959320" y="1333800"/>
              <a:ext cx="18468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520" y="0"/>
            <a:ext cx="901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Neutral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31253" t="59482" r="32031" b="19319"/>
          <a:stretch/>
        </p:blipFill>
        <p:spPr>
          <a:xfrm>
            <a:off x="0" y="2133720"/>
            <a:ext cx="9144000" cy="39621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2280" y="6324480"/>
            <a:ext cx="8839440" cy="86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pace below, use arrows to indicate the pH of the substances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or your pH chart to match the Cabbage Juice scale at your lab table.  Don’t worry about a perfect match, just be sure to show the change in color as you travel from pH 1 to pH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8447040" y="2512800"/>
            <a:ext cx="644400" cy="896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7802640" y="2512800"/>
            <a:ext cx="642960" cy="89676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0800000">
            <a:off x="7159680" y="2512800"/>
            <a:ext cx="644400" cy="896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515280" y="2512800"/>
            <a:ext cx="644400" cy="896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0800000">
            <a:off x="5869080" y="2512800"/>
            <a:ext cx="642960" cy="896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5226120" y="2512800"/>
            <a:ext cx="644400" cy="896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4581000" y="2512800"/>
            <a:ext cx="644760" cy="8967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3936960" y="2514240"/>
            <a:ext cx="642960" cy="89676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3293640" y="2514240"/>
            <a:ext cx="644760" cy="89676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2649600" y="2514240"/>
            <a:ext cx="642960" cy="89676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2006640" y="2514240"/>
            <a:ext cx="644400" cy="8967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0800000">
            <a:off x="1362240" y="2514240"/>
            <a:ext cx="644400" cy="89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717480" y="2514240"/>
            <a:ext cx="642960" cy="89676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74160" y="2514240"/>
            <a:ext cx="644760" cy="896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9032760" y="2979360"/>
            <a:ext cx="1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2581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  2    3   4   5   6   7   8   9  10 11 12  13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3456000" y="491940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bbing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5137200" y="492084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king 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7113600" y="492084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13000" y="492084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nst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527360" y="492084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h 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151080" y="492084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illed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560160" y="492084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on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3913200" y="491940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1860480" y="491940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693880" y="491940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817960" y="491940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1245960" y="4919400"/>
            <a:ext cx="2133720" cy="368280"/>
          </a:xfrm>
          <a:prstGeom prst="rect">
            <a:avLst/>
          </a:prstGeom>
          <a:noFill/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ne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4" idx="3"/>
            <a:endCxn id="201" idx="0"/>
          </p:cNvCxnSpPr>
          <p:nvPr/>
        </p:nvCxnSpPr>
        <p:spPr>
          <a:xfrm flipH="1" flipV="1">
            <a:off x="6190920" y="3411000"/>
            <a:ext cx="2088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5" idx="3"/>
            <a:endCxn id="198" idx="0"/>
          </p:cNvCxnSpPr>
          <p:nvPr/>
        </p:nvCxnSpPr>
        <p:spPr>
          <a:xfrm flipH="1" flipV="1">
            <a:off x="8124480" y="3411000"/>
            <a:ext cx="6408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16" idx="3"/>
            <a:endCxn id="204" idx="0"/>
          </p:cNvCxnSpPr>
          <p:nvPr/>
        </p:nvCxnSpPr>
        <p:spPr>
          <a:xfrm flipV="1">
            <a:off x="3387240" y="3412440"/>
            <a:ext cx="872280" cy="61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7" idx="3"/>
            <a:endCxn id="202" idx="0"/>
          </p:cNvCxnSpPr>
          <p:nvPr/>
        </p:nvCxnSpPr>
        <p:spPr>
          <a:xfrm flipH="1" flipV="1">
            <a:off x="5547960" y="3411000"/>
            <a:ext cx="5472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8" idx="3"/>
            <a:endCxn id="204" idx="0"/>
          </p:cNvCxnSpPr>
          <p:nvPr/>
        </p:nvCxnSpPr>
        <p:spPr>
          <a:xfrm flipV="1">
            <a:off x="4226040" y="3412440"/>
            <a:ext cx="33840" cy="61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9" idx="3"/>
            <a:endCxn id="208" idx="0"/>
          </p:cNvCxnSpPr>
          <p:nvPr/>
        </p:nvCxnSpPr>
        <p:spPr>
          <a:xfrm flipV="1">
            <a:off x="1634760" y="3412440"/>
            <a:ext cx="50040" cy="61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13" idx="3"/>
            <a:endCxn id="204" idx="0"/>
          </p:cNvCxnSpPr>
          <p:nvPr/>
        </p:nvCxnSpPr>
        <p:spPr>
          <a:xfrm flipH="1" flipV="1">
            <a:off x="4258800" y="3412440"/>
            <a:ext cx="27216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0" idx="3"/>
            <a:endCxn id="204" idx="0"/>
          </p:cNvCxnSpPr>
          <p:nvPr/>
        </p:nvCxnSpPr>
        <p:spPr>
          <a:xfrm flipH="1" flipV="1">
            <a:off x="4258800" y="3412440"/>
            <a:ext cx="72936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1" idx="3"/>
            <a:endCxn id="206" idx="0"/>
          </p:cNvCxnSpPr>
          <p:nvPr/>
        </p:nvCxnSpPr>
        <p:spPr>
          <a:xfrm flipV="1">
            <a:off x="2935080" y="3412440"/>
            <a:ext cx="3708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2" idx="3"/>
            <a:endCxn id="204" idx="0"/>
          </p:cNvCxnSpPr>
          <p:nvPr/>
        </p:nvCxnSpPr>
        <p:spPr>
          <a:xfrm flipV="1">
            <a:off x="3768840" y="3412440"/>
            <a:ext cx="49104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3" idx="3"/>
            <a:endCxn id="200" idx="0"/>
          </p:cNvCxnSpPr>
          <p:nvPr/>
        </p:nvCxnSpPr>
        <p:spPr>
          <a:xfrm flipH="1" flipV="1">
            <a:off x="6837120" y="3411000"/>
            <a:ext cx="56160" cy="61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4" idx="3"/>
            <a:endCxn id="207" idx="0"/>
          </p:cNvCxnSpPr>
          <p:nvPr/>
        </p:nvCxnSpPr>
        <p:spPr>
          <a:xfrm flipV="1">
            <a:off x="2320920" y="3412440"/>
            <a:ext cx="864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15000" t="0" r="6667" b="0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09480" y="128520"/>
            <a:ext cx="99072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on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12852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e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128520"/>
            <a:ext cx="8380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128520"/>
            <a:ext cx="9144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 St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12852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38880" y="152280"/>
            <a:ext cx="106704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lled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3587760"/>
            <a:ext cx="1143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bbing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358776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3587760"/>
            <a:ext cx="8380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h 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76920" y="3587760"/>
            <a:ext cx="99036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king 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3587760"/>
            <a:ext cx="12193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72400" y="3587760"/>
            <a:ext cx="9144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838080"/>
            <a:ext cx="3886200" cy="1752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371600" y="1143000"/>
            <a:ext cx="2209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cid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838080"/>
            <a:ext cx="3886200" cy="1752840"/>
          </a:xfrm>
          <a:prstGeom prst="ellipse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486400" y="1143000"/>
            <a:ext cx="2209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utra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4495680"/>
            <a:ext cx="2971800" cy="1752840"/>
          </a:xfrm>
          <a:prstGeom prst="ellipse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4800600"/>
            <a:ext cx="1689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utral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/>
          <p:cNvSpPr/>
          <p:nvPr/>
        </p:nvSpPr>
        <p:spPr>
          <a:xfrm>
            <a:off x="3505320" y="4419720"/>
            <a:ext cx="5257800" cy="1981080"/>
          </a:xfrm>
          <a:prstGeom prst="ellipse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54360" y="4724280"/>
            <a:ext cx="298944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s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1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rcRect l="18749" t="28124" r="17970" b="20835"/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04920" y="990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9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24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29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34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4419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48909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5410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5867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6338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006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0060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006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00600" y="3886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00600" y="4419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4876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006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0060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00600" y="6248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00800" y="990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00800" y="1523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00800" y="1981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00800" y="2438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0080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3429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0080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00800" y="5334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5791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0080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rcRect l="15626" t="18753" r="15626" b="14584"/>
          <a:stretch/>
        </p:blipFill>
        <p:spPr>
          <a:xfrm>
            <a:off x="0" y="-7632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343400" y="228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-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838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.1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00400" y="1295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on Juice, Soda, and Vine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33526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king Soda, Cheer, Dish Soap, and 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3434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n Starch, Distilled Water, Rubbing Alcohol, Salt, and Sug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– Lemon Juice     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– Vinegar     3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- S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6248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– Cheer     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– Ammonia     3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– Baking S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320" y="76320"/>
            <a:ext cx="5562000" cy="609480"/>
            <a:chOff x="76320" y="76320"/>
            <a:chExt cx="5562000" cy="6094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283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1392120" y="150120"/>
              <a:ext cx="4246200" cy="48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66680" y="3170160"/>
            <a:ext cx="701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are homework with lab partner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66680"/>
            <a:ext cx="8153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99ff3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 Demonstratio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cc"/>
                  </a:gs>
                  <a:gs pos="100000">
                    <a:srgbClr val="99ff33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99ff3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planation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cc"/>
                  </a:gs>
                  <a:gs pos="100000">
                    <a:srgbClr val="99ff33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838080" y="2286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>
                    <a:alpha val="64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mework</a:t>
            </a:r>
            <a:endParaRPr b="0" lang="en-US" sz="1800" spc="1" strike="noStrike">
              <a:ln w="0">
                <a:noFill/>
              </a:ln>
              <a:solidFill>
                <a:srgbClr val="ff00ff">
                  <a:alpha val="64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601640"/>
            <a:ext cx="9144000" cy="51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hat is p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 Answer the 9 question on back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using complete sentences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*Also indicate which section your answer came fr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UE FRIDAY – Answer questions 1-5 tonight and 6-9 tomorrow night…or do all 9 tonight…don’t procrastina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96156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What is pH?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Read Article and answer 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1143000"/>
            <a:ext cx="8763120" cy="3581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a pH below 7…lemon juice, soda, and vinegar can all be classified as ____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TPChart"/>
          <p:cNvGraphicFramePr/>
          <p:nvPr/>
        </p:nvGraphicFramePr>
        <p:xfrm>
          <a:off x="4508640" y="2438280"/>
          <a:ext cx="45720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438280"/>
                    <a:ext cx="45720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563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AnswerNow"/>
          <p:cNvGrpSpPr/>
          <p:nvPr/>
        </p:nvGrpSpPr>
        <p:grpSpPr>
          <a:xfrm>
            <a:off x="3048120" y="152280"/>
            <a:ext cx="2222280" cy="444240"/>
            <a:chOff x="3048120" y="152280"/>
            <a:chExt cx="2222280" cy="444240"/>
          </a:xfrm>
        </p:grpSpPr>
        <p:sp>
          <p:nvSpPr>
            <p:cNvPr id="316" name="ANShape"/>
            <p:cNvSpPr/>
            <p:nvPr/>
          </p:nvSpPr>
          <p:spPr>
            <a:xfrm>
              <a:off x="3048120" y="1522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NText"/>
            <p:cNvSpPr/>
            <p:nvPr/>
          </p:nvSpPr>
          <p:spPr>
            <a:xfrm>
              <a:off x="3048120" y="1522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523880" y="152280"/>
            <a:ext cx="6019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H Demonstration Explan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8827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s:  Fill in the blanks using the word bank provided to explain the pH demonstration you saw today in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59092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not magic, it’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liquid in the first g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ed the same whe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uice was added and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that it w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liquid in the second g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ing that it was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Final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quid in the third glass turn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meant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quid w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lored cabbage ju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It indicates whether a substance is acidi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, or neutral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523880"/>
            <a:ext cx="9144000" cy="13341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b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ol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or                                                                    b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ing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81280" y="266688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86200" y="316224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bba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66880" y="369576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utr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9320" y="426708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095880" y="426708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i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800600" y="480060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e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38280" y="5372280"/>
            <a:ext cx="1371600" cy="26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43400" y="5372280"/>
            <a:ext cx="1371600" cy="26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iole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590544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dicato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95480" y="643896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ng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29301" t="16929" r="34570" b="21869"/>
          <a:stretch/>
        </p:blipFill>
        <p:spPr>
          <a:xfrm>
            <a:off x="3276720" y="1295280"/>
            <a:ext cx="2819160" cy="3505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26371" t="17963" r="38478" b="22140"/>
          <a:stretch/>
        </p:blipFill>
        <p:spPr>
          <a:xfrm>
            <a:off x="6324480" y="1295280"/>
            <a:ext cx="2743200" cy="3505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0" y="3581280"/>
            <a:ext cx="171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rcRect l="28323" t="15625" r="34570" b="24471"/>
          <a:stretch/>
        </p:blipFill>
        <p:spPr>
          <a:xfrm>
            <a:off x="152280" y="1295280"/>
            <a:ext cx="2895840" cy="3505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7620120" y="3581280"/>
            <a:ext cx="171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52520" y="3581280"/>
            <a:ext cx="171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0440" y="228600"/>
            <a:ext cx="87249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bbage Juice Indicator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5029200"/>
            <a:ext cx="8534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at do you know about these liquids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pH Demonstration Explanation Check and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bage Patch Indicator Lab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H? Read article and answer questions in complete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H? Read article and answer questions in complete sentences. (Due Fri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H of acids and ba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4FD9C0F4-190C-4B50-9F79-9491D48A71F9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information gathered from investigations to classify materials as acidic, basic, or neutral using the pH sca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18749" t="28124" r="17970" b="20835"/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990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9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24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9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4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4419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8909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410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5867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6338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44920" y="444600"/>
            <a:ext cx="464832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56480" y="0"/>
            <a:ext cx="238752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361800"/>
            <a:ext cx="4038480" cy="65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mber the substances from  1-12 as it has been done on the one to the lef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 the pH of each substance by determining whether you think each substance is 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Strong Acid (pH 1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Weak Acid (pH 4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Neutral Substance (pH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Weak Base (8-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Strong Base (11-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18749" t="30393" r="64454" b="20835"/>
          <a:stretch/>
        </p:blipFill>
        <p:spPr>
          <a:xfrm>
            <a:off x="533520" y="76320"/>
            <a:ext cx="2286000" cy="6553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762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7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2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7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214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191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662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5181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6110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762120"/>
            <a:ext cx="5410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arefully fill each well about half-way with the 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correctly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numbered substanc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Arial"/>
              </a:rPr>
              <a:t>Cabbage Patch Indica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fully fill the wells halfway with all of the sub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to your seat and place your substances in the center of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5-6 drops of cabbage juice to each s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 each sample to your cabbage juice color chart and record your results on your lab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ean up your lab area (neater than it was to begin) and use any remaining time to complete your lab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320" y="867240"/>
            <a:ext cx="9140400" cy="1164600"/>
            <a:chOff x="76320" y="867240"/>
            <a:chExt cx="9140400" cy="1164600"/>
          </a:xfrm>
        </p:grpSpPr>
        <p:sp>
          <p:nvSpPr>
            <p:cNvPr id="114" name=""/>
            <p:cNvSpPr/>
            <p:nvPr/>
          </p:nvSpPr>
          <p:spPr>
            <a:xfrm rot="10800000">
              <a:off x="8446680" y="867240"/>
              <a:ext cx="643680" cy="896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7803000" y="867240"/>
              <a:ext cx="643680" cy="8960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7158960" y="867240"/>
              <a:ext cx="644040" cy="89604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6514920" y="867240"/>
              <a:ext cx="643680" cy="8960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800000">
              <a:off x="5871240" y="867240"/>
              <a:ext cx="643680" cy="896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0800000">
              <a:off x="5227200" y="867240"/>
              <a:ext cx="644040" cy="8960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800000">
              <a:off x="4583520" y="867240"/>
              <a:ext cx="643680" cy="89604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0800000">
              <a:off x="3939840" y="867240"/>
              <a:ext cx="643680" cy="89604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00000">
              <a:off x="3295800" y="867240"/>
              <a:ext cx="644040" cy="89604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2651760" y="867240"/>
              <a:ext cx="643680" cy="896040"/>
            </a:xfrm>
            <a:prstGeom prst="rect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2008080" y="867240"/>
              <a:ext cx="643680" cy="8960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800000">
              <a:off x="1364040" y="867240"/>
              <a:ext cx="644040" cy="896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00000">
              <a:off x="720000" y="867240"/>
              <a:ext cx="643680" cy="89604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0800000">
              <a:off x="76320" y="867240"/>
              <a:ext cx="643680" cy="896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0800000">
              <a:off x="9034560" y="1330200"/>
              <a:ext cx="182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520" y="1600200"/>
            <a:ext cx="901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Neutral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76320"/>
            <a:ext cx="761760" cy="73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32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  2    3   4   5   6   7   8   9  10 11 12  13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9:19:52Z</dcterms:created>
  <dc:creator>CCPS</dc:creator>
  <dc:description/>
  <dc:language>en-US</dc:language>
  <cp:lastModifiedBy>CCPS</cp:lastModifiedBy>
  <dcterms:modified xsi:type="dcterms:W3CDTF">2010-02-24T19:20:40Z</dcterms:modified>
  <cp:revision>1</cp:revision>
  <dc:subject/>
  <dc:title>Slide 1</dc:title>
</cp:coreProperties>
</file>